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92FE-2071-424B-9B4A-32A23B752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7B2-BF1A-4101-A1CF-D038A2AA8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shifting into another essential component of Estrellita: Blending which includes: silabas, palabras, y or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continuing with the systematic approach with lots of scaffolds &amp; monitoring on a daily basis &amp; gradual release of responsibil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979-49AD-42CA-AF97-BA12AC4CB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e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learning all the initial s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y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view of all the consona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ccurs naturally as students learn the syllables.  Blending process is much easier to master when the syllable changes are isolated to the initial position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etc) rather than the final position (m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m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m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etc.)  Only been required to discriminate initial 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w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eacher directions in man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-Te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f have been chant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ílabas con “a”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point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x syllables if successfu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n move in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ividual Test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sílabas con “a” using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me gree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ílabas con “a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ards (needs to be 100%).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inue the same process with silaba con e, i, o, 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xplain Blending Progress Moni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la envelope, individualized progress chart, las sílabas, 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 not formally teach letter names until students have finished the blending con “a-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947-252F-4684-9FFF-B07FC1F67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application means taking sound 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any aspects of writing addressed ie. tracing &amp; printing lowercase letters, spelling dictation, uppercase/lettern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ey poi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lways allow students to have a copy of the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nidos Inicial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udent chart at their side while they are doing dictation or any other kind of wr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D68-12BE-48F9-A742-B688E8A65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gle ??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90F-BF23-4231-9AD8-65F109114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E87-284E-4375-B189-7A2E056E7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pad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Tomar conciencia de los componentes esenciales del programa de Estrell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prenderán como apoyar a su hijo/hija con la lectura en el hog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e aware of the essential components of  the Estrellita progra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how to provide reading support at ho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417-0AA9-482A-9C06-C57915ACD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a childhood memory of a special reading experi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4f81bd"/>
                </a:solidFill>
                <a:latin typeface="Calibri"/>
              </a:rPr>
              <a:t>Comparta una memoria de la niñez de una experiencia especial de la lec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1041-352C-437B-A385-60229F625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accelerated, systematic, &amp; explicit phonic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key to unlocking decoding skills for beginning read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rellita is organized by Sonidos  and Blending (which includes: s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a, palabra y oracion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un programa acelerado, sistemático, &amp; explícito de la lectura fonétic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Es la llave para abrir las habilidades </a:t>
            </a:r>
            <a:r>
              <a:rPr b="1" i="1" lang="es-ES" sz="1200" spc="-1" strike="noStrike">
                <a:solidFill>
                  <a:srgbClr val="000000"/>
                </a:solidFill>
                <a:latin typeface="Calibri"/>
              </a:rPr>
              <a:t>para que los lectores principiantes aprendan a l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ellita esta organizado con dos  componentes que son los Sonidos iniciales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que al mezclarse con otros sonidos que va siendo el segundo componente se obtienen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as, palabras y oracione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2D74-7402-4641-A4D1-0EB6E946C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seem very skilled base, but its our job of thinking Globall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be mindful of helping children make conn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ics skills should be tied into meaningful language experiences (relevant, not decontextual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 your child to make connections in other contexts ie. Sonidos iniciales- used in children’s names, signs, home objects, stories, poems (locate words that begin with a certain sound, draw pictures of words that begin with a specific s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ando lleguen sus hijos con tareas de lectura de Estrellit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as habilidades de la lectura fonética de Estrellita se deben atar con las experienc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Calibri"/>
              </a:rPr>
              <a:t>Anime a su hijo/a a hacer conexiones en otros contextos ie. Sonidos iniciales: usado en los nombres de los niños, anuncios, ojbjetos de la casa, en cuentos, poemas, (localice las palabras que comienzan con cierto sonido, </a:t>
            </a: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dibuje los cuadros/imagenes de las palabras que comienzan con un sonido específico) al final tendran experiencias significativas con su vida academica tanto como pers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DC0-21DA-439A-AB25-BAD5E0B33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w  I’ll/we’ll begin by discussing th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mponent of Estrell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chart Sonidos Iniciales: deconstructing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es from picture to sound – known to unknow (when students start with words they know, they can connect it to a s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inforcing meaning of picture and letter ie. iman, nan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case letters are emphasized because these are the letters students will encounter most when they’re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d chart ver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wall chart is divided into segeme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each containing a group of letters taught together, based on frequency of use (segments are color co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und bud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ign letters: k, w (less significant and last on the cha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8E10-C027-4FC5-A4BB-6B7D6D6E0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sual, auditory, kinesthet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rellita incorporates a variety of modalities for learning in order to support different styles of learning.  It emphasizes the visual, the auditory, and the kines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tive participation, everyone stands up and chants with hand movemen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so, oso, o, o, 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importance of chanting and hand signals from begi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ndu for the til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ja for silent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Sonidos Iniciales Individual Student Chart to each 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parents and children chant the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 chant with hand movements and have parents and children fol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Vari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xtend chant: ie. mano, mano, m, m, m     y el nombre es “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B97-3B7C-450E-91F8-BA8C02E89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w  I’ll/we’ll begin by discussing th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mponent of Estrell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chart Sonidos Iniciales: deconstructing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es from picture to sound – known to unknow (when students start with words they know, they can connect it to a s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inforcing meaning of picture and letter ie. iman, nan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case letters are emphasized because these are the letters students will encounter most when they’re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d chart ver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wall chart is divided into segeme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each containing a group of letters taught together, based on frequency of use (segments are color co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und bud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ign letters: k, w (less significant and last on the cha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CA0D-A5C3-4079-AE22-35945380B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Benefits of Estrellit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lows students to participate at their own rate. (Teacher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pond to students at their point of n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know their own learning objective (developing independence). (Teachers create an individualized plan for each stud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teacher to monitor student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s Beneficios de Estrellit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Permite que los estudiantes participen a su propio ni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Los estudiantes saben su propio objetivo de aprendizaje (desarrollando la independenc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rmite que la maestra supervise el progreso del alum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CB9-35EC-4AF3-B43E-4F579BAA1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89C-0256-4690-887F-555F6496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6D5-4F7C-494C-B8A1-3AE185B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00874-09B9-45F0-B47D-BB7A3B4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FF58C-8CB4-42B7-B6CB-C4A29909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3C62E-4843-476D-9DF6-79D6942E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4188E-458E-4D8B-904A-A070B70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3938DD-3302-4C9E-B935-7823CD9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76759-322B-405F-9FBE-1589178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53C08-7137-486E-AB6F-7ECFE38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762DF-3FE4-465B-BE57-2B117916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B3D33-EC4D-434D-85A8-3270C136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12320-2DA4-48D8-BDB7-DA4D93C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B70-94D3-4D24-A27C-3BECFF0F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25AFA-1DDD-4D96-B5F1-62BCB49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F2CD5-A1C7-45ED-9DB8-FCD5A9C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8DC33-ABA2-4B8E-B1CF-C176B34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C343F-3AE2-4840-AF35-9FCF36E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89278-69F1-4D62-9E67-A5CDB90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7E42A-BF12-4CAE-B88C-5C41688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4725F-575A-49C7-84B8-EB8D0187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2E5D8-EB28-4F8A-BFB5-131E8A8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73A73-F9DC-4298-9AB8-5CD5840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22795-DB79-40E7-8831-0A1F0E3A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D59-6E0B-447C-AB96-F1AE9E94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8665D-024B-41C8-B827-177F6E45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F158-A46B-4069-875A-AC6681F7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5539-152C-4D83-9592-AB8CB2BA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046EE-6058-4F9E-915F-42E9B4F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BDECA-07DE-4214-A456-F1FB68C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7B91-99EE-40CB-B623-448BFF9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6CF33-CAD7-4915-8DCD-FAD198C0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A7AF6-0262-43B4-89AF-065E511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8545D-9605-49EF-9B76-F01C7FC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43228-44DE-4421-94B2-57E7BBD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9A12-2AD0-4E28-99A8-2A334360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1355D-5740-4B14-A54D-9BB86B6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89821-E9D2-473C-9DCA-DB79215C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92A19-2336-4BD0-BB7D-C6D302C0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C6290-A8B5-4179-AC45-C6C76463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36407-8537-48D6-B128-EAA380F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10472B-4C1F-4708-9A03-8E262AE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1DF3E-3661-44F6-85E7-D5738B1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547CE-C96B-47DF-AE91-5AA2F1D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778CF-D9BD-4638-938A-E4210B17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322D3-0001-4FEB-AB0E-89B143A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5F03-EF0B-4341-8007-2B0333D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8C04E-49DD-408A-A861-FCDBF4F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2A63A-7CC1-440A-9452-AC9FE6E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344F4-798B-4ADE-8C11-4730E13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7B144-5F7B-4B79-8157-219C5081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96152-D7BA-4729-B0E9-DE8328E7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B4A-C5AB-4AB4-93F6-12B8026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DA9-47B8-465C-B3B4-5AA37FA3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9AB-4C80-4690-BC4B-C08CEA3C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D0D-1391-41FB-A200-E6F2873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71D-C1FE-42DC-972E-7C5A546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C72-BCB2-46F6-A4FD-D4DEF3FA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CC0E-3A98-4F78-BF9A-9351821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A80A-4DB5-4849-BAAD-93DFDC9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420-B7A4-4E05-8914-A216354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199-D320-4A4E-864A-8E4F990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400-8727-4211-9810-DF1A8DF8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B98D-131D-4D69-9DA8-BA39C167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D85E-7F4C-4312-8526-DCC0A50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0EAD-4A01-4BF5-8C68-445CBC6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30D3-F511-4172-B8A0-9B00ADBF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5BD6-8B53-4139-A0E5-34A3949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974-770E-429A-B0B3-FE39901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6B89-3B5D-4565-B13D-78DEBF17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233C-98A7-4C0C-AF52-790DDB0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4D62-424B-4B6B-91E3-3F0DB19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4E02-5121-4351-AB37-16C205C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D265-1DAD-48B0-8A1F-AE52429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A57E-F054-4787-AD8A-4F92FB2A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FB21-238C-40E4-A79E-7C89FE66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FAAD-24F2-4D0F-B269-5D1EE43F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C43F-A2DF-4A6E-BDAB-4BEE83CB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7FCC-0006-4424-8D56-ABFB9373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96C-5334-437A-A178-F9F96CD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3A11-C947-4657-A360-AC9797B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C9F15-9DBD-4059-B8AE-55981C17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C3D3-CD42-4620-A5E7-681F8381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D70E-3E7A-4C08-B3A3-CE094AB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0124-AA49-4C9D-AC34-20A9AA9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8E59-64A5-411A-AD47-E4C2A0B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80D0-8C92-4FE4-92EE-A03DED72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C047-B354-422A-8499-F53FFC02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4001-8073-46D0-AB30-8656B8BF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61A6-0474-4981-B041-F8527148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1B1-B61C-4C51-A59C-E4D4EC2D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63DC-7735-41DF-8B42-C6699C2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21B8-3A12-48CD-B8B5-AB9CCAF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71D7-5BCD-48C8-9BC9-2F89011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37F7D-FA7A-4C51-A9AE-482BD5C7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8863-1D72-448F-8C58-DBC4F7B5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66836-A16E-4415-B6D4-B989B1D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0EA0-5ADD-4022-9437-E7AA4BE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B427-6C9A-47C8-B836-BDC1A26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D53E-EDC6-4AD3-92EE-86E69C33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A5F7-3CC0-4CED-818E-B95FFD70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EF8-D65F-4A18-B4ED-C7D37D7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1863-8C9B-4B94-83F2-BDCA1C5A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660C-2423-4C8F-96FE-2C8D85FC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9E087-9A8D-4039-AAA7-35BF6AED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36C20-C399-4C68-954A-62A6195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652A-1C7B-447E-B1A7-72D8468D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50336-D3CE-4C0A-8E2A-3D2A0172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8652-9DF1-4C5C-BBD2-FCC8E40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A2442-7334-4B93-BBF2-D8D7741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426A-6F1B-4501-91DF-6519F7DE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23C4-4FDA-4BC1-A9B0-88A33B9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E3D-4D43-467D-B62F-11ED523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2071-B436-468C-845D-FD1D38A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67E2-DCF1-48DA-A650-B6271E2B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1807-A010-4C78-8AF0-B9E98BCF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1F12-1BA5-456B-8C9C-3A060966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4820-9E11-493C-9196-0446F327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2D33-83C9-40DE-AE09-1622742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D51D-108F-4BDC-85F7-FC813C4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56DB-A50D-4170-B6C7-F68EAEDD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9E44-7C77-4FBD-9708-0348CCE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2F87-5767-41E8-AE93-ED5AA11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B45-FADD-4307-A2D8-A4EC336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80E11-171E-448F-A1AA-6D38ACB7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492BD-6A30-450D-9444-243661A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A830-B7F3-4BBD-A289-0D6AE4F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6D37-AA81-43C0-8729-88CF0A41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FAA02-F85A-4980-874B-CF0C8C5C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B90D2-30B3-4543-AD10-942AC3E7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FB5B-4834-470A-B77B-B674F4A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FC05-6D3B-4B96-AEB0-00B86E13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0F3DF-B7E1-4E69-A2D9-E8FC124D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1A13-C934-48B8-A93A-128E63FA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106-CE5A-4C82-B068-99B565FE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5B00-86D8-425E-94C3-BDDDD26C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9FF6-0FC6-47AE-AF75-438F93A4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3B53-CF27-4416-AA6E-D9A2410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53F98-4BDF-4C32-B9AE-4B5E84C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71528-734E-4C69-9033-6D5F4BA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39110-FD1F-4505-BB90-88C39A1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0E68-9762-4174-BCF0-BC1207A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E4804-B834-4919-A53E-2A6020A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1044C-763C-4D13-90E9-49DC1D31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2DCE3-DC6B-493D-99C9-590E477E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364-0CA5-4EB0-8A46-29227ABF6CF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24D9-E19B-4C28-A76C-3C9D8D66A3D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288-3746-437E-BFE6-FF57747F80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BD5-DA8A-4B6D-B307-3BE4FACA97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7476-9D46-4B55-AD0C-E57ACB6FB8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F09-7CBF-4E16-AD2F-9519B9FBB4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415-7D61-49CA-8698-989F66BCCA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C5FF-D27F-4820-A003-691ACD8F7E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F311-01E5-4028-A890-B2E211A83E9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754-383B-439C-A102-C29803C0FF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6A4-2DF9-44F0-88A3-89D5EC55A3F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509C-7BC2-4DCD-9EFC-9F185815E81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6349"/>
                </a:solidFill>
                <a:latin typeface="Georgia"/>
              </a:rPr>
              <a:t>Estrellit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66320" y="1523520"/>
            <a:ext cx="762012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7" descr="http://www.waynecountyschools.org/334/lib/334/STAR.jpg"/>
          <p:cNvPicPr/>
          <p:nvPr/>
        </p:nvPicPr>
        <p:blipFill>
          <a:blip r:embed="rId1"/>
          <a:stretch/>
        </p:blipFill>
        <p:spPr>
          <a:xfrm>
            <a:off x="2627280" y="1905120"/>
            <a:ext cx="3457440" cy="3908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http://www.estrellita.com/images/logo.gif"/>
          <p:cNvPicPr/>
          <p:nvPr/>
        </p:nvPicPr>
        <p:blipFill>
          <a:blip r:embed="rId2"/>
          <a:stretch/>
        </p:blipFill>
        <p:spPr>
          <a:xfrm>
            <a:off x="3882960" y="3133800"/>
            <a:ext cx="149400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899"/>
                </a:solidFill>
                <a:latin typeface="Georgia"/>
              </a:rPr>
              <a:t>Mezclando Sonidos Iniciales Con Otros Sonido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3" name="Content Placeholder 3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8566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4724280" y="1600200"/>
            <a:ext cx="3353040" cy="46702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899"/>
                </a:solidFill>
                <a:latin typeface="Georgia"/>
              </a:rPr>
              <a:t>Mezclando Sonidos: la supervisión del progreso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2"/>
          <a:stretch/>
        </p:blipFill>
        <p:spPr>
          <a:xfrm>
            <a:off x="7392960" y="1676520"/>
            <a:ext cx="1446120" cy="18698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7" name="Content Placeholder 3"/>
          <p:cNvSpPr/>
          <p:nvPr/>
        </p:nvSpPr>
        <p:spPr>
          <a:xfrm>
            <a:off x="304920" y="1676520"/>
            <a:ext cx="4114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íla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alab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u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3"/>
          <a:stretch/>
        </p:blipFill>
        <p:spPr>
          <a:xfrm>
            <a:off x="5022720" y="2359080"/>
            <a:ext cx="2756160" cy="3743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"/>
          <p:cNvPicPr/>
          <p:nvPr/>
        </p:nvPicPr>
        <p:blipFill>
          <a:blip r:embed="rId4"/>
          <a:stretch/>
        </p:blipFill>
        <p:spPr>
          <a:xfrm rot="16200000">
            <a:off x="6998400" y="4507560"/>
            <a:ext cx="2005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Uso de la Escri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7" descr="http://myers.salkeiz.k12.or.us/images/student_writing.jpg"/>
          <p:cNvPicPr/>
          <p:nvPr/>
        </p:nvPicPr>
        <p:blipFill>
          <a:blip r:embed="rId1"/>
          <a:stretch/>
        </p:blipFill>
        <p:spPr>
          <a:xfrm>
            <a:off x="5867280" y="4114800"/>
            <a:ext cx="2921040" cy="1946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http://blog.oregonlive.com/washingtoncounty_impact/2009/04/large_kind1.JPG"/>
          <p:cNvPicPr/>
          <p:nvPr/>
        </p:nvPicPr>
        <p:blipFill>
          <a:blip r:embed="rId2"/>
          <a:stretch/>
        </p:blipFill>
        <p:spPr>
          <a:xfrm>
            <a:off x="366840" y="1905120"/>
            <a:ext cx="3595680" cy="2286000"/>
          </a:xfrm>
          <a:prstGeom prst="rect">
            <a:avLst/>
          </a:prstGeom>
          <a:ln w="0">
            <a:noFill/>
          </a:ln>
        </p:spPr>
      </p:pic>
      <p:pic>
        <p:nvPicPr>
          <p:cNvPr id="663" name="Diagram 11" descr=""/>
          <p:cNvPicPr/>
          <p:nvPr/>
        </p:nvPicPr>
        <p:blipFill>
          <a:blip r:embed="rId3"/>
          <a:stretch/>
        </p:blipFill>
        <p:spPr>
          <a:xfrm>
            <a:off x="2273400" y="2359080"/>
            <a:ext cx="4219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Apoy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14" descr="http://www.rcowen.com/RCOADVPic/ParentChildReadingrs.jpg"/>
          <p:cNvPicPr/>
          <p:nvPr/>
        </p:nvPicPr>
        <p:blipFill>
          <a:blip r:embed="rId1"/>
          <a:stretch/>
        </p:blipFill>
        <p:spPr>
          <a:xfrm>
            <a:off x="6445080" y="2743200"/>
            <a:ext cx="2165400" cy="1303200"/>
          </a:xfrm>
          <a:prstGeom prst="rect">
            <a:avLst/>
          </a:prstGeom>
          <a:ln w="0">
            <a:noFill/>
          </a:ln>
        </p:spPr>
      </p:pic>
      <p:pic>
        <p:nvPicPr>
          <p:cNvPr id="667" name="Diagram 8" descr=""/>
          <p:cNvPicPr/>
          <p:nvPr/>
        </p:nvPicPr>
        <p:blipFill>
          <a:blip r:embed="rId2"/>
          <a:stretch/>
        </p:blipFill>
        <p:spPr>
          <a:xfrm>
            <a:off x="1822320" y="1865160"/>
            <a:ext cx="5578560" cy="3633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http://www.hewlett.org/uploads/images/deeper_learning.jpg"/>
          <p:cNvPicPr/>
          <p:nvPr/>
        </p:nvPicPr>
        <p:blipFill>
          <a:blip r:embed="rId3"/>
          <a:stretch/>
        </p:blipFill>
        <p:spPr>
          <a:xfrm>
            <a:off x="762120" y="2560680"/>
            <a:ext cx="22701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43000" y="4952520"/>
            <a:ext cx="59720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Silvia Gongora       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Kinder</a:t>
            </a:r>
            <a:br>
              <a:rPr sz="2000"/>
            </a:b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Griselda Palma           Primer Grado</a:t>
            </a:r>
            <a:br>
              <a:rPr sz="2000"/>
            </a:b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Arcelia Granados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Segundo Grado</a:t>
            </a:r>
            <a:br>
              <a:rPr sz="20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438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estras Bilingü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6" descr="http://www.unbound.co.in/images/support.jpg"/>
          <p:cNvPicPr/>
          <p:nvPr/>
        </p:nvPicPr>
        <p:blipFill>
          <a:blip r:embed="rId1"/>
          <a:stretch/>
        </p:blipFill>
        <p:spPr>
          <a:xfrm>
            <a:off x="3962520" y="9144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Orden del Dí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ar la </a:t>
            </a: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bienveni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Establecer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el </a:t>
            </a: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context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Sonidos Inicia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Cantar los sonidos iniciales con los movimientos de la man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Mezclando sonidos iniciales con otros sonidos       (sílabas, palabras, oraci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spcBef>
                <a:spcPts val="4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eorgia"/>
              </a:rPr>
              <a:t>La supervisión del progreso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730080" indent="336600"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Uso de la escritura</a:t>
            </a:r>
            <a:r>
              <a:rPr b="0" lang="es-MX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eorgia"/>
              </a:rPr>
              <a:t>¿Quienes son los que apoyan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Reflec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0" descr="http://www.lafayettecountyhealth.org/MomChild.jpg"/>
          <p:cNvPicPr/>
          <p:nvPr/>
        </p:nvPicPr>
        <p:blipFill>
          <a:blip r:embed="rId1"/>
          <a:stretch/>
        </p:blipFill>
        <p:spPr>
          <a:xfrm>
            <a:off x="2209680" y="3200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Parent and child reading together"/>
          <p:cNvPicPr/>
          <p:nvPr/>
        </p:nvPicPr>
        <p:blipFill>
          <a:blip r:embed="rId2"/>
          <a:stretch/>
        </p:blipFill>
        <p:spPr>
          <a:xfrm>
            <a:off x="4881600" y="3886200"/>
            <a:ext cx="1747800" cy="22716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30492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d16349"/>
                </a:solidFill>
                <a:latin typeface="Arial"/>
              </a:rPr>
              <a:t>Comparta una memoria de la niñez de una experiencia especial de la lectu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eorgia"/>
              </a:rPr>
              <a:t>¿Qué es Estrellita?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Picture 9" descr="http://www.fancyamortgage.co.uk/Page_Category_Images/key%20worker.jpg"/>
          <p:cNvPicPr/>
          <p:nvPr/>
        </p:nvPicPr>
        <p:blipFill>
          <a:blip r:embed="rId1"/>
          <a:srcRect l="41412" t="0" r="5892" b="0"/>
          <a:stretch/>
        </p:blipFill>
        <p:spPr>
          <a:xfrm>
            <a:off x="3124080" y="2895480"/>
            <a:ext cx="2590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Integración de Estrelli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7" descr="http://www.wrapables.com/images/product/A54817.jpg"/>
          <p:cNvPicPr/>
          <p:nvPr/>
        </p:nvPicPr>
        <p:blipFill>
          <a:blip r:embed="rId1"/>
          <a:stretch/>
        </p:blipFill>
        <p:spPr>
          <a:xfrm>
            <a:off x="2666880" y="2438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Sonidos In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onidos Inciales y Los Senti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4" descr="MPj03091660000[1]"/>
          <p:cNvPicPr/>
          <p:nvPr/>
        </p:nvPicPr>
        <p:blipFill>
          <a:blip r:embed="rId1"/>
          <a:stretch/>
        </p:blipFill>
        <p:spPr>
          <a:xfrm>
            <a:off x="5479920" y="4400640"/>
            <a:ext cx="3444840" cy="193356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1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9" descr="http://www.idaholions.org/images/eyes.jpg"/>
          <p:cNvPicPr/>
          <p:nvPr/>
        </p:nvPicPr>
        <p:blipFill>
          <a:blip r:embed="rId2"/>
          <a:stretch/>
        </p:blipFill>
        <p:spPr>
          <a:xfrm>
            <a:off x="360360" y="1517760"/>
            <a:ext cx="4522680" cy="28591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3" descr="http://ultimateears.com/uploads/assets/products/500/ultimate-ears-500_5.jpg"/>
          <p:cNvPicPr/>
          <p:nvPr/>
        </p:nvPicPr>
        <p:blipFill>
          <a:blip r:embed="rId3"/>
          <a:stretch/>
        </p:blipFill>
        <p:spPr>
          <a:xfrm>
            <a:off x="3651120" y="3273480"/>
            <a:ext cx="24512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Sonidos Incial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\\prdechome03\users\other\116706\My Documents\My Pictures\Estrellita Pictures\IMG_0923.JPG"/>
          <p:cNvPicPr/>
          <p:nvPr/>
        </p:nvPicPr>
        <p:blipFill>
          <a:blip r:embed="rId1"/>
          <a:srcRect l="7034" t="7549" r="3020" b="9183"/>
          <a:stretch/>
        </p:blipFill>
        <p:spPr>
          <a:xfrm>
            <a:off x="3962520" y="1066680"/>
            <a:ext cx="4038480" cy="498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Sonidos Iniciales: Tar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10" descr="http://startupblog.files.wordpress.com/2008/01/manila-envelope.jpg"/>
          <p:cNvPicPr/>
          <p:nvPr/>
        </p:nvPicPr>
        <p:blipFill>
          <a:blip r:embed="rId1"/>
          <a:srcRect l="13157" t="13538" r="13157" b="13161"/>
          <a:stretch/>
        </p:blipFill>
        <p:spPr>
          <a:xfrm>
            <a:off x="685800" y="1600200"/>
            <a:ext cx="3352680" cy="46702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"/>
          <p:cNvPicPr/>
          <p:nvPr/>
        </p:nvPicPr>
        <p:blipFill>
          <a:blip r:embed="rId2"/>
          <a:stretch/>
        </p:blipFill>
        <p:spPr>
          <a:xfrm>
            <a:off x="1060560" y="2359080"/>
            <a:ext cx="2670120" cy="3591000"/>
          </a:xfrm>
          <a:prstGeom prst="rect">
            <a:avLst/>
          </a:prstGeom>
          <a:ln w="0">
            <a:noFill/>
          </a:ln>
        </p:spPr>
      </p:pic>
      <p:sp>
        <p:nvSpPr>
          <p:cNvPr id="641" name="Oval 4"/>
          <p:cNvSpPr/>
          <p:nvPr/>
        </p:nvSpPr>
        <p:spPr>
          <a:xfrm>
            <a:off x="1371600" y="2666880"/>
            <a:ext cx="60948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5-Point Star 6"/>
          <p:cNvSpPr/>
          <p:nvPr/>
        </p:nvSpPr>
        <p:spPr>
          <a:xfrm>
            <a:off x="1143000" y="26668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5-Point Star 7"/>
          <p:cNvSpPr/>
          <p:nvPr/>
        </p:nvSpPr>
        <p:spPr>
          <a:xfrm>
            <a:off x="1143000" y="358128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-Point Star 8"/>
          <p:cNvSpPr/>
          <p:nvPr/>
        </p:nvSpPr>
        <p:spPr>
          <a:xfrm>
            <a:off x="1143000" y="4343400"/>
            <a:ext cx="228600" cy="304920"/>
          </a:xfrm>
          <a:custGeom>
            <a:avLst/>
            <a:gdLst>
              <a:gd name="textAreaLeft" fmla="*/ 70560 w 228600"/>
              <a:gd name="textAreaRight" fmla="*/ 158040 w 22860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228600" h="304800">
                <a:moveTo>
                  <a:pt x="0" y="116423"/>
                </a:moveTo>
                <a:lnTo>
                  <a:pt x="87318" y="116424"/>
                </a:lnTo>
                <a:lnTo>
                  <a:pt x="114300" y="0"/>
                </a:lnTo>
                <a:lnTo>
                  <a:pt x="141282" y="116424"/>
                </a:lnTo>
                <a:lnTo>
                  <a:pt x="228600" y="116423"/>
                </a:lnTo>
                <a:lnTo>
                  <a:pt x="157958" y="188376"/>
                </a:lnTo>
                <a:lnTo>
                  <a:pt x="184941" y="304799"/>
                </a:lnTo>
                <a:lnTo>
                  <a:pt x="114300" y="232845"/>
                </a:lnTo>
                <a:lnTo>
                  <a:pt x="43659" y="304799"/>
                </a:lnTo>
                <a:lnTo>
                  <a:pt x="70642" y="188376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2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257640" cy="4206960"/>
          </a:xfrm>
          <a:prstGeom prst="rect">
            <a:avLst/>
          </a:prstGeom>
          <a:ln w="0">
            <a:noFill/>
          </a:ln>
        </p:spPr>
      </p:pic>
      <p:sp>
        <p:nvSpPr>
          <p:cNvPr id="646" name="Oval 10"/>
          <p:cNvSpPr/>
          <p:nvPr/>
        </p:nvSpPr>
        <p:spPr>
          <a:xfrm>
            <a:off x="5638680" y="2225520"/>
            <a:ext cx="762120" cy="1067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5-Point Star 11"/>
          <p:cNvSpPr/>
          <p:nvPr/>
        </p:nvSpPr>
        <p:spPr>
          <a:xfrm>
            <a:off x="5257800" y="214956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5-Point Star 12"/>
          <p:cNvSpPr/>
          <p:nvPr/>
        </p:nvSpPr>
        <p:spPr>
          <a:xfrm>
            <a:off x="5257800" y="31399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5-Point Star 13"/>
          <p:cNvSpPr/>
          <p:nvPr/>
        </p:nvSpPr>
        <p:spPr>
          <a:xfrm>
            <a:off x="5257800" y="405432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prstDash val="sys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4"/>
          <p:cNvSpPr/>
          <p:nvPr/>
        </p:nvSpPr>
        <p:spPr>
          <a:xfrm>
            <a:off x="304920" y="1447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o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5"/>
          <p:cNvSpPr/>
          <p:nvPr/>
        </p:nvSpPr>
        <p:spPr>
          <a:xfrm>
            <a:off x="4952880" y="1447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5:55:39Z</dcterms:created>
  <dc:creator>116706</dc:creator>
  <dc:description/>
  <dc:language>en-US</dc:language>
  <cp:lastModifiedBy>116706</cp:lastModifiedBy>
  <dcterms:modified xsi:type="dcterms:W3CDTF">2010-12-07T22:28:22Z</dcterms:modified>
  <cp:revision>327</cp:revision>
  <dc:subject/>
  <dc:title>Estrellita</dc:title>
</cp:coreProperties>
</file>